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wmf" ContentType="image/x-wmf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6D6-F11F-47F7-BBB0-BC8DFF5B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446-D330-434E-84FC-84909376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7A2-604F-4326-AEEB-96003040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711-B140-4C9C-B5CC-4704065C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099-5B41-4181-8B79-B450C19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E45-C78D-4A63-859C-46152FE9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D20-1D23-4456-B944-8894C993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ABD-6F98-49D1-B0BA-6816C85D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E46-9DB4-4DDD-B6A3-7D1FE980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CA6-A6B3-42D8-A03F-026A31FB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B00-D8F8-4E0F-9955-2DE08F9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57D-A443-48E3-BD93-A742DFE7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1256-53D4-475A-A152-C4D7DC481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лилиния 3" descr=""/>
          <p:cNvPicPr/>
          <p:nvPr/>
        </p:nvPicPr>
        <p:blipFill>
          <a:blip r:embed="rId2"/>
          <a:stretch/>
        </p:blipFill>
        <p:spPr>
          <a:xfrm>
            <a:off x="-463680" y="969840"/>
            <a:ext cx="3365640" cy="1309680"/>
          </a:xfrm>
          <a:prstGeom prst="rect">
            <a:avLst/>
          </a:prstGeom>
          <a:ln w="0">
            <a:noFill/>
          </a:ln>
        </p:spPr>
      </p:pic>
      <p:pic>
        <p:nvPicPr>
          <p:cNvPr id="42" name="Полилиния 4" descr=""/>
          <p:cNvPicPr/>
          <p:nvPr/>
        </p:nvPicPr>
        <p:blipFill>
          <a:blip r:embed="rId3"/>
          <a:stretch/>
        </p:blipFill>
        <p:spPr>
          <a:xfrm>
            <a:off x="6076800" y="4475160"/>
            <a:ext cx="33418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8.  Элементную базу какого поколения ЭВМ составляют полупроводниковые элементы, транзисторы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поколен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б)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поколен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в)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поколен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г)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покол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алгоритм, в котором предполагается многократное выполнение одних и тех же действий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процесс выявления ошибок в программе и их устранения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о получаем в результате графического способа записи алгоритма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лгоритм,  в котором действия выполняются последовательно друг за другом, называется…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процесс, при котором исходный текст программы переводится в коды ЭВМ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алгоритмическая конструкция, в которой в зависимости от условий может выполняться либо одно, либо другое действие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рофессия человека, разрабатывающего компьютерные программы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им свойством обладает алгоритм, позволяющий решать целый класс однотипных задач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запись алгоритма на языке конкретного исполнителя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еловек, робот, автомат, устройство, компьютер, который выполняет чьи-то команды, называется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9.   Что в компьютерном мире называют «Голубым гигантом»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Calibri"/>
              </a:rPr>
              <a:t>а)  Оболочку </a:t>
            </a: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Norton Commander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Calibri"/>
              </a:rPr>
              <a:t>б)  ЭВМ БЭСМ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Calibri"/>
              </a:rPr>
              <a:t>в)  Фирму </a:t>
            </a: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IBM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Calibri"/>
              </a:rPr>
              <a:t>г)   Основателя </a:t>
            </a:r>
            <a:r>
              <a:rPr b="0" lang="en-US" sz="4000" spc="-1" strike="noStrike">
                <a:solidFill>
                  <a:srgbClr val="f2f2f2"/>
                </a:solidFill>
                <a:latin typeface="Calibri"/>
              </a:rPr>
              <a:t>Microsoft</a:t>
            </a:r>
            <a:r>
              <a:rPr b="0" lang="ru-RU" sz="4000" spc="-1" strike="noStrike">
                <a:solidFill>
                  <a:srgbClr val="f2f2f2"/>
                </a:solidFill>
                <a:latin typeface="Calibri"/>
              </a:rPr>
              <a:t> Билла 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Calibri"/>
              </a:rPr>
              <a:t>      Гейт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Совокупность всех команд, которые может выполнить конкретный исполнитель, – это…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им оператором заканчивается программа на языке программирования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Горизонтальный свиток 3"/>
          <p:cNvGrpSpPr/>
          <p:nvPr/>
        </p:nvGrpSpPr>
        <p:grpSpPr>
          <a:xfrm>
            <a:off x="590400" y="-249120"/>
            <a:ext cx="6516720" cy="3851280"/>
            <a:chOff x="590400" y="-249120"/>
            <a:chExt cx="6516720" cy="3851280"/>
          </a:xfrm>
        </p:grpSpPr>
        <p:pic>
          <p:nvPicPr>
            <p:cNvPr id="238" name="Горизонтальный свиток 3" descr=""/>
            <p:cNvPicPr/>
            <p:nvPr/>
          </p:nvPicPr>
          <p:blipFill>
            <a:blip r:embed="rId1"/>
            <a:stretch/>
          </p:blipFill>
          <p:spPr>
            <a:xfrm>
              <a:off x="590400" y="-249120"/>
              <a:ext cx="651672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257480" y="419040"/>
              <a:ext cx="53910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«СМЕШНАЯ» ИНФОРМАТИ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2" descr="E:\мое\с флэшкис ф\6в класс\картинки\картинки на школьную тему\AMERI007.WMF"/>
          <p:cNvPicPr/>
          <p:nvPr/>
        </p:nvPicPr>
        <p:blipFill>
          <a:blip r:embed="rId2"/>
          <a:stretch/>
        </p:blipFill>
        <p:spPr>
          <a:xfrm>
            <a:off x="4724280" y="2801880"/>
            <a:ext cx="39862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Если бы осьминоги умели считать, то какой системой счисления они бы  пользовались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о это за романтическое место в компьютере, где может причалить усталое и потрепанное бурями периферийное устройство 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о такое «подмышка» на компьютерном языке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зовут дирижера оркестра компьютерных устройств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Закончите народную компьютерную пословицу « Русский вирус влезет и …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в шутку называют электронную почту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о обозначает пиктограмма из символов двоеточие, дефис, закрывающая скобк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275600" y="4800600"/>
            <a:ext cx="1697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0.  Какое точное слово придумали ученые для информации, которая не может быть понята и усвоен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Шу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б)  Га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в)  Бред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г)   Ерес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ют учителя информатики, преподающего детишкам язык программирования ЛОГО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391520" y="4800600"/>
            <a:ext cx="1885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о представляют собой круглые скобки, доведенные до крайней степени истощения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 каждой современной школе должно быть как минимум три выхода: главный, запасной и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ие банки создают только программисты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О чем эта фраза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«Открой окошко – разорю тебя немножко»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родолжите фразу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«Дорогу осилит идущий, а информатику …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о это за романтическое место в компьютере, где может причалить усталое и потрепанное бурями периферийное устройство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772400" y="5181480"/>
            <a:ext cx="1508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звание какого узла устройства компьютера часто выкрикивают в театрах на хороших представлениях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Прямоугольник 2" descr=""/>
          <p:cNvPicPr/>
          <p:nvPr/>
        </p:nvPicPr>
        <p:blipFill>
          <a:blip r:embed="rId1"/>
          <a:stretch/>
        </p:blipFill>
        <p:spPr>
          <a:xfrm>
            <a:off x="1749600" y="2335320"/>
            <a:ext cx="59799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57200" y="457200"/>
            <a:ext cx="1990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 Б В 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666880" y="457200"/>
            <a:ext cx="1828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 Е Ж 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724280" y="457200"/>
            <a:ext cx="1828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Й К 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629400" y="457200"/>
            <a:ext cx="1981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 Н О 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143000" y="1905120"/>
            <a:ext cx="18288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 С Т 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429000" y="1905120"/>
            <a:ext cx="18288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 Х Ц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638680" y="190512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 Щ Ъ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3352680" y="3429000"/>
            <a:ext cx="2305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Ь Э Ю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247680" y="5109840"/>
            <a:ext cx="81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является основным элементом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абличной  базы данных?  -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44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1.  В чем измеряется скорость передачи данных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В бодах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б)  В барах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в)  В герцах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г)  В узла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3" descr=""/>
          <p:cNvPicPr/>
          <p:nvPr/>
        </p:nvPicPr>
        <p:blipFill>
          <a:blip r:embed="rId2"/>
          <a:stretch/>
        </p:blipFill>
        <p:spPr>
          <a:xfrm>
            <a:off x="5857920" y="6480"/>
            <a:ext cx="33224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Горизонтальный свиток 3"/>
          <p:cNvGrpSpPr/>
          <p:nvPr/>
        </p:nvGrpSpPr>
        <p:grpSpPr>
          <a:xfrm>
            <a:off x="360360" y="438120"/>
            <a:ext cx="3930480" cy="2328840"/>
            <a:chOff x="360360" y="438120"/>
            <a:chExt cx="3930480" cy="2328840"/>
          </a:xfrm>
        </p:grpSpPr>
        <p:pic>
          <p:nvPicPr>
            <p:cNvPr id="277" name="Горизонтальный свиток 3" descr=""/>
            <p:cNvPicPr/>
            <p:nvPr/>
          </p:nvPicPr>
          <p:blipFill>
            <a:blip r:embed="rId2"/>
            <a:stretch/>
          </p:blipFill>
          <p:spPr>
            <a:xfrm>
              <a:off x="360360" y="438120"/>
              <a:ext cx="393048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38080" y="914400"/>
              <a:ext cx="3086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омпьютерные омоним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(красные ячейк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Горизонтальный свиток 4"/>
          <p:cNvGrpSpPr/>
          <p:nvPr/>
        </p:nvGrpSpPr>
        <p:grpSpPr>
          <a:xfrm>
            <a:off x="4552920" y="285840"/>
            <a:ext cx="4157640" cy="2401920"/>
            <a:chOff x="4552920" y="285840"/>
            <a:chExt cx="4157640" cy="2401920"/>
          </a:xfrm>
        </p:grpSpPr>
        <p:pic>
          <p:nvPicPr>
            <p:cNvPr id="280" name="Горизонтальный свиток 4" descr=""/>
            <p:cNvPicPr/>
            <p:nvPr/>
          </p:nvPicPr>
          <p:blipFill>
            <a:blip r:embed="rId3"/>
            <a:stretch/>
          </p:blipFill>
          <p:spPr>
            <a:xfrm>
              <a:off x="4552920" y="285840"/>
              <a:ext cx="415764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38560" y="771480"/>
              <a:ext cx="33004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Гипервиктор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(желтые ячейк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оризонтальный свиток 8"/>
          <p:cNvGrpSpPr/>
          <p:nvPr/>
        </p:nvGrpSpPr>
        <p:grpSpPr>
          <a:xfrm>
            <a:off x="2341440" y="3333600"/>
            <a:ext cx="4156200" cy="2706840"/>
            <a:chOff x="2341440" y="3333600"/>
            <a:chExt cx="4156200" cy="2706840"/>
          </a:xfrm>
        </p:grpSpPr>
        <p:pic>
          <p:nvPicPr>
            <p:cNvPr id="283" name="Горизонтальный свиток 8" descr=""/>
            <p:cNvPicPr/>
            <p:nvPr/>
          </p:nvPicPr>
          <p:blipFill>
            <a:blip r:embed="rId4"/>
            <a:stretch/>
          </p:blipFill>
          <p:spPr>
            <a:xfrm>
              <a:off x="2341440" y="3333600"/>
              <a:ext cx="415620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867040" y="3857760"/>
              <a:ext cx="324324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омпьютерный верифик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(синие ячейки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152280" y="609480"/>
          <a:ext cx="8763120" cy="5639040"/>
        </p:xfrm>
        <a:graphic>
          <a:graphicData uri="http://schemas.openxmlformats.org/drawingml/2006/table">
            <a:tbl>
              <a:tblPr/>
              <a:tblGrid>
                <a:gridCol w="1460520"/>
                <a:gridCol w="1459080"/>
                <a:gridCol w="1460520"/>
                <a:gridCol w="1461960"/>
                <a:gridCol w="1460520"/>
                <a:gridCol w="1460520"/>
              </a:tblGrid>
              <a:tr h="939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960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39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939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960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39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9"/>
          <p:cNvSpPr/>
          <p:nvPr/>
        </p:nvSpPr>
        <p:spPr>
          <a:xfrm>
            <a:off x="152280" y="380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1600200" y="380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1"/>
          <p:cNvSpPr/>
          <p:nvPr/>
        </p:nvSpPr>
        <p:spPr>
          <a:xfrm>
            <a:off x="3048120" y="3808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2"/>
          <p:cNvSpPr/>
          <p:nvPr/>
        </p:nvSpPr>
        <p:spPr>
          <a:xfrm>
            <a:off x="4495680" y="380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3"/>
          <p:cNvSpPr/>
          <p:nvPr/>
        </p:nvSpPr>
        <p:spPr>
          <a:xfrm>
            <a:off x="5943600" y="380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4"/>
          <p:cNvSpPr/>
          <p:nvPr/>
        </p:nvSpPr>
        <p:spPr>
          <a:xfrm>
            <a:off x="7391520" y="3808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5"/>
          <p:cNvSpPr/>
          <p:nvPr/>
        </p:nvSpPr>
        <p:spPr>
          <a:xfrm>
            <a:off x="7391520" y="12952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6"/>
          <p:cNvSpPr/>
          <p:nvPr/>
        </p:nvSpPr>
        <p:spPr>
          <a:xfrm>
            <a:off x="152280" y="12952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7"/>
          <p:cNvSpPr/>
          <p:nvPr/>
        </p:nvSpPr>
        <p:spPr>
          <a:xfrm>
            <a:off x="1600200" y="12952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8"/>
          <p:cNvSpPr/>
          <p:nvPr/>
        </p:nvSpPr>
        <p:spPr>
          <a:xfrm>
            <a:off x="3048120" y="12952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9"/>
          <p:cNvSpPr/>
          <p:nvPr/>
        </p:nvSpPr>
        <p:spPr>
          <a:xfrm>
            <a:off x="4495680" y="12952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0"/>
          <p:cNvSpPr/>
          <p:nvPr/>
        </p:nvSpPr>
        <p:spPr>
          <a:xfrm>
            <a:off x="5943600" y="12952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1"/>
          <p:cNvSpPr/>
          <p:nvPr/>
        </p:nvSpPr>
        <p:spPr>
          <a:xfrm>
            <a:off x="5943600" y="22096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2"/>
          <p:cNvSpPr/>
          <p:nvPr/>
        </p:nvSpPr>
        <p:spPr>
          <a:xfrm>
            <a:off x="4495680" y="22096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3"/>
          <p:cNvSpPr/>
          <p:nvPr/>
        </p:nvSpPr>
        <p:spPr>
          <a:xfrm>
            <a:off x="1600200" y="22096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4"/>
          <p:cNvSpPr/>
          <p:nvPr/>
        </p:nvSpPr>
        <p:spPr>
          <a:xfrm>
            <a:off x="152280" y="22096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5"/>
          <p:cNvSpPr/>
          <p:nvPr/>
        </p:nvSpPr>
        <p:spPr>
          <a:xfrm>
            <a:off x="3048120" y="22096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6"/>
          <p:cNvSpPr/>
          <p:nvPr/>
        </p:nvSpPr>
        <p:spPr>
          <a:xfrm>
            <a:off x="7391520" y="22096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7"/>
          <p:cNvSpPr/>
          <p:nvPr/>
        </p:nvSpPr>
        <p:spPr>
          <a:xfrm>
            <a:off x="152280" y="31240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8"/>
          <p:cNvSpPr/>
          <p:nvPr/>
        </p:nvSpPr>
        <p:spPr>
          <a:xfrm>
            <a:off x="1600200" y="31240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9"/>
          <p:cNvSpPr/>
          <p:nvPr/>
        </p:nvSpPr>
        <p:spPr>
          <a:xfrm>
            <a:off x="3048120" y="31240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4495680" y="31240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1"/>
          <p:cNvSpPr/>
          <p:nvPr/>
        </p:nvSpPr>
        <p:spPr>
          <a:xfrm>
            <a:off x="5943600" y="31240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2"/>
          <p:cNvSpPr/>
          <p:nvPr/>
        </p:nvSpPr>
        <p:spPr>
          <a:xfrm>
            <a:off x="7391520" y="31240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3"/>
          <p:cNvSpPr/>
          <p:nvPr/>
        </p:nvSpPr>
        <p:spPr>
          <a:xfrm>
            <a:off x="152280" y="40384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4"/>
          <p:cNvSpPr/>
          <p:nvPr/>
        </p:nvSpPr>
        <p:spPr>
          <a:xfrm>
            <a:off x="1600200" y="40384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35"/>
          <p:cNvSpPr/>
          <p:nvPr/>
        </p:nvSpPr>
        <p:spPr>
          <a:xfrm>
            <a:off x="3048120" y="40384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6"/>
          <p:cNvSpPr/>
          <p:nvPr/>
        </p:nvSpPr>
        <p:spPr>
          <a:xfrm>
            <a:off x="4495680" y="40384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7"/>
          <p:cNvSpPr/>
          <p:nvPr/>
        </p:nvSpPr>
        <p:spPr>
          <a:xfrm>
            <a:off x="5943600" y="40384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8"/>
          <p:cNvSpPr/>
          <p:nvPr/>
        </p:nvSpPr>
        <p:spPr>
          <a:xfrm>
            <a:off x="7391520" y="40384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39"/>
          <p:cNvSpPr/>
          <p:nvPr/>
        </p:nvSpPr>
        <p:spPr>
          <a:xfrm>
            <a:off x="152280" y="4952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40"/>
          <p:cNvSpPr/>
          <p:nvPr/>
        </p:nvSpPr>
        <p:spPr>
          <a:xfrm>
            <a:off x="1600200" y="4952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1"/>
          <p:cNvSpPr/>
          <p:nvPr/>
        </p:nvSpPr>
        <p:spPr>
          <a:xfrm>
            <a:off x="3048120" y="49528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42"/>
          <p:cNvSpPr/>
          <p:nvPr/>
        </p:nvSpPr>
        <p:spPr>
          <a:xfrm>
            <a:off x="4495680" y="4952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3"/>
          <p:cNvSpPr/>
          <p:nvPr/>
        </p:nvSpPr>
        <p:spPr>
          <a:xfrm>
            <a:off x="5943600" y="4952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4"/>
          <p:cNvSpPr/>
          <p:nvPr/>
        </p:nvSpPr>
        <p:spPr>
          <a:xfrm>
            <a:off x="7391520" y="49528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Управляющая кнопка: звук 45">
            <a:hlinkClick r:id="" action="ppaction://hlinkshowjump?jump=lastslide"/>
            <a:hlinkClick r:id="rId1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8406"/>
                </a:moveTo>
                <a:lnTo>
                  <a:pt x="20817" y="8406"/>
                </a:lnTo>
                <a:lnTo>
                  <a:pt x="25238" y="3794"/>
                </a:lnTo>
                <a:lnTo>
                  <a:pt x="25238" y="17806"/>
                </a:lnTo>
                <a:lnTo>
                  <a:pt x="20817" y="13194"/>
                </a:lnTo>
                <a:lnTo>
                  <a:pt x="16386" y="13194"/>
                </a:lnTo>
                <a:close/>
              </a:path>
              <a:path fill="darken" w="46786" h="21600">
                <a:moveTo>
                  <a:pt x="26892" y="10800"/>
                </a:moveTo>
                <a:lnTo>
                  <a:pt x="30399" y="10800"/>
                </a:lnTo>
              </a:path>
              <a:path fill="darken" w="46786" h="21600">
                <a:moveTo>
                  <a:pt x="26892" y="8406"/>
                </a:moveTo>
                <a:lnTo>
                  <a:pt x="30399" y="5639"/>
                </a:lnTo>
              </a:path>
              <a:path fill="darken" w="46786" h="21600">
                <a:moveTo>
                  <a:pt x="26892" y="13194"/>
                </a:moveTo>
                <a:lnTo>
                  <a:pt x="30399" y="15961"/>
                </a:lnTo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освобождение от электрического заряда, но и позиция в записи чис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единица давления, но и популярный язык программ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специалист, управляющий с пульта работой сложного оборудования, но и команда в языке программ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время, в течении которого возможно судоходство, но и процесс перемещения по сай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умозаключение, но и передача данных из основной памяти компьютера во внешнее устрой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фотоаппарат для непрофессионалов, но и жаргонное название моде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.  Как называется наука о законах и формах мышления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Логисти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б)  Логопед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в)  Логарифми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г)  Лог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Горизонтальный свиток 5"/>
          <p:cNvSpPr/>
          <p:nvPr/>
        </p:nvSpPr>
        <p:spPr>
          <a:xfrm>
            <a:off x="457200" y="914400"/>
            <a:ext cx="8305920" cy="502920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разрыв в расписании движения электричек, но и прямоугольная область экрана, в которой выполняется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indows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програм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«красная строка», но и текст, набранный в текстовом редакторе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icrosoft Word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до нажатия клавиши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Это не только спортивный коллектив, но и указание на машинном языке действия при выполнении отдельной опера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ы до сих пор пользуемся в быту шестидесятиричной системой счисления древних вавилоня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идеокарте имеет свой собственный процессор, собственное программное обеспечение и собственную оперативную памя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Горизонтальный свиток 5"/>
          <p:cNvSpPr/>
          <p:nvPr/>
        </p:nvSpPr>
        <p:spPr>
          <a:xfrm>
            <a:off x="457200" y="914400"/>
            <a:ext cx="8305920" cy="571500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ограммную или аппаратную ошибку называют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g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(«жучок»). Это название возникло в 60-е годы, когда застрявший между контактами мотылек стал причиной отказа мощной ЭВ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Цифру нуль можно заменять прописной буквой «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Если вы печатаете со скоростью, превышающей скорость, с которой компьютер выводит символы на экран, то это приводит к потере симв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виша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D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 клавиатуре ПК прекращает выполнение любой программы или сеанс оперативной памя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indows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допускает, чтобы на одном диске находились два файла с абсолютно одинаковыми имен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3.   Какой «титул» имеет множество информационных элементов (вершин, узлов) и связей между ними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Принц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б)  Граф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в)  Княз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г)  Ц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Если содержание  двух файлов объединить в одном файле, то размер получившегося файла может быть меньше суммы размеров двух исходных фай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Число 14263 может быть записано в пятеричной системе счис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в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ке сконструировал первую счетную машину, а его именем назвали один из языков программиров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Горизонтальный свиток 5"/>
          <p:cNvSpPr/>
          <p:nvPr/>
        </p:nvSpPr>
        <p:spPr>
          <a:xfrm>
            <a:off x="380880" y="-380880"/>
            <a:ext cx="8305920" cy="69339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тр Павлович – русский писатель, написавший сказку «Конек-горбунок», а Андрей Петрович – один из основателей теоретического и системного программирования. Назовите их общую фамил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ая латинская буква является и названием самого популярного витамина, и именем дис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 латинского слова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RE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- «бежать» произошли два компьютерных термина. Назовите их.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в информатике можно встретить дерево,  растущее корнем вверх?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союзы и частицы русского языка могут быть и математическими действиями, назовите и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Горизонтальный свиток 5"/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сколько лет назад каждый английский бомж бесплатно получил именно это, чтобы легче было искать работу и жиль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же именн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Горизонтальный свиток 5"/>
          <p:cNvSpPr/>
          <p:nvPr/>
        </p:nvSpPr>
        <p:spPr>
          <a:xfrm>
            <a:off x="457200" y="0"/>
            <a:ext cx="8305920" cy="66294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ртрет кисти Боровиковского, похищенный из музея города Грозного, удалось обнаружить, благодаря объявлению о продаже портрета , размещенному именно там, гд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4.  В работе какого ученного были впервые заложены основы теории алгоритмов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Чарльза Беббидж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б)  Блеза Паскал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в)  С.А.Лебедев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г)  Алана Тьюрин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ведская фирма «Электролюкс» создала холодильник с этой компьютерной приставкой, что позволяет хозяину ознакомиться с содержимым холодильника через Интерн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ист, хотел написать одну из сторон света (север), а получил узел сети, который предоставляет свои ресурсы другим узл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ист хотел написать название подводного взрывного снаряда (мина), а получилась системная магистраль передачи данных внутри П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а бывает: полная, пустая, потребительская, баскетбольная, мусорна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а бывает: картонная, кожаная, пластиковая, пухлая, вложенная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ист, хотел написать вид легкой атлетики (бег), а получилась команда языка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TM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а бывает: партийная, профсоюзная, свободная, выделенная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ист, хотел написать прежнее название Ирана (Персия), а  получился новый вариант программного проду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Горизонтальный свиток 5"/>
          <p:cNvSpPr/>
          <p:nvPr/>
        </p:nvSpPr>
        <p:spPr>
          <a:xfrm>
            <a:off x="533520" y="609480"/>
            <a:ext cx="830556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а бывает: торговая, спортивная, туристическая, военная, информационная, реляционна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Горизонтальный свиток 5"/>
          <p:cNvSpPr/>
          <p:nvPr/>
        </p:nvSpPr>
        <p:spPr>
          <a:xfrm>
            <a:off x="457200" y="60948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ист, хотел написать название шкафа для хранения посуды (буфет), а получилось место промежуточного хранения дан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15.  Что из перечисленного можно отнести к недостаткам двоичной системы счисления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)  Сложность выполнения арифметичес-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ких операций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б)  «Длинная» запись чисел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)   Невозможность применения аппарат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 алгебры логики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)   Для ее реализации нужны сложны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  технические устр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Полилиния 3" descr=""/>
          <p:cNvPicPr/>
          <p:nvPr/>
        </p:nvPicPr>
        <p:blipFill>
          <a:blip r:embed="rId2"/>
          <a:stretch/>
        </p:blipFill>
        <p:spPr>
          <a:xfrm>
            <a:off x="-469800" y="969840"/>
            <a:ext cx="3609720" cy="1309680"/>
          </a:xfrm>
          <a:prstGeom prst="rect">
            <a:avLst/>
          </a:prstGeom>
          <a:ln w="0">
            <a:noFill/>
          </a:ln>
        </p:spPr>
      </p:pic>
      <p:pic>
        <p:nvPicPr>
          <p:cNvPr id="360" name="Полилиния 4" descr=""/>
          <p:cNvPicPr/>
          <p:nvPr/>
        </p:nvPicPr>
        <p:blipFill>
          <a:blip r:embed="rId3"/>
          <a:stretch/>
        </p:blipFill>
        <p:spPr>
          <a:xfrm>
            <a:off x="5815080" y="4475160"/>
            <a:ext cx="3584520" cy="1309680"/>
          </a:xfrm>
          <a:prstGeom prst="rect">
            <a:avLst/>
          </a:prstGeom>
          <a:ln w="0">
            <a:noFill/>
          </a:ln>
        </p:spPr>
      </p:pic>
      <p:pic>
        <p:nvPicPr>
          <p:cNvPr id="361" name="Полилиния 5" descr=""/>
          <p:cNvPicPr/>
          <p:nvPr/>
        </p:nvPicPr>
        <p:blipFill>
          <a:blip r:embed="rId4"/>
          <a:stretch/>
        </p:blipFill>
        <p:spPr>
          <a:xfrm>
            <a:off x="1450800" y="-328680"/>
            <a:ext cx="57247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6.  В какой системе счисления запись одного и того же десятичного числа будет самой короткой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В двоично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б)  В пятерично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в)  В восьмерично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г)  В шестнадцатерично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7.   Какое название получили 4 бита, или полубайт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Нибл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б)   Нимб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в)   Нобел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г)   Нибелун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755640" y="828720"/>
            <a:ext cx="7785000" cy="197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мое\с флэшкис ф\6в класс\картинки\картинки на школьную тему\ANTN071.WMF"/>
          <p:cNvPicPr/>
          <p:nvPr/>
        </p:nvPicPr>
        <p:blipFill>
          <a:blip r:embed="rId2"/>
          <a:stretch/>
        </p:blipFill>
        <p:spPr>
          <a:xfrm>
            <a:off x="2209680" y="2895480"/>
            <a:ext cx="4672080" cy="35308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2882880" y="249120"/>
            <a:ext cx="29275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8.  Что над «страною звучит» в известной песни группы «Браво»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Московский б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б)  Московский бай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в)  Московский килобай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г)   Московский мегабай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268200" y="96840"/>
            <a:ext cx="8667720" cy="640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E:\мое\с флэшкис ф\6в класс\картинки\картинки на школьную тему\AMERI006.WMF"/>
          <p:cNvPicPr/>
          <p:nvPr/>
        </p:nvPicPr>
        <p:blipFill>
          <a:blip r:embed="rId2"/>
          <a:stretch/>
        </p:blipFill>
        <p:spPr>
          <a:xfrm>
            <a:off x="7010280" y="4724280"/>
            <a:ext cx="1619280" cy="172404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5" descr=""/>
          <p:cNvPicPr/>
          <p:nvPr/>
        </p:nvPicPr>
        <p:blipFill>
          <a:blip r:embed="rId3"/>
          <a:stretch/>
        </p:blipFill>
        <p:spPr>
          <a:xfrm>
            <a:off x="6851520" y="6272280"/>
            <a:ext cx="268308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.  Что называют английским словом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ardware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Твердую копию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б)  Жесткий диск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в)  Аппаратные средства ПК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г)  Программное обеспечен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компьюте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2.  Какой вид памяти компьютера самый быстрый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Оперативная памят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б)  Внешняя памят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в)  Кэш – памя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3.   Для чего память ЭВМ не предназначен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Запись информац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б)  Хранение информац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в)  Преобразование информац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г)  Выдача информ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.   Что представляет собой основная интерфейсная система компьютера, обеспечивающая сопряжение и связь всех устройств между собой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Микропроцессор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б)  Системную шину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в)  Адаптер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г)  Контроле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5.  Что из перечисленного не является базовой топологией сети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Шин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б)  Кольц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в)  Спирал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г)  Звез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6.   Какое из приведенных слов является синонимом слова «цикл»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 Итерац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б)   Интеграц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в)   Интуиц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г)   Интерве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1749600" y="2335320"/>
            <a:ext cx="59799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57200" y="457200"/>
            <a:ext cx="1990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 Б В 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666880" y="457200"/>
            <a:ext cx="1828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 Е Ж 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724280" y="457200"/>
            <a:ext cx="1828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Й К 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629400" y="457200"/>
            <a:ext cx="1981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 Н О 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143000" y="1905120"/>
            <a:ext cx="18288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 С Т 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29000" y="1905120"/>
            <a:ext cx="18288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 Х Ц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638680" y="190512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 Щ Ъ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352680" y="3429000"/>
            <a:ext cx="2305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Ь Э Ю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152280" y="4724280"/>
            <a:ext cx="87631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ая форма взаимодействия пользователя с компьютером является общепринятой? -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23134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. В произведении какого писател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 впервые употреблен термин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«РОБОТ»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  а)   К.Чапек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  б)   Г.Уэллс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  в)   Ж. Верн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  г)    А.Р.Беляе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6089760" y="536400"/>
            <a:ext cx="3127320" cy="12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Горизонтальный свиток 3"/>
          <p:cNvGrpSpPr/>
          <p:nvPr/>
        </p:nvGrpSpPr>
        <p:grpSpPr>
          <a:xfrm>
            <a:off x="590400" y="133200"/>
            <a:ext cx="3316320" cy="2328840"/>
            <a:chOff x="590400" y="133200"/>
            <a:chExt cx="3316320" cy="2328840"/>
          </a:xfrm>
        </p:grpSpPr>
        <p:pic>
          <p:nvPicPr>
            <p:cNvPr id="85" name="Горизонтальный свиток 3" descr=""/>
            <p:cNvPicPr/>
            <p:nvPr/>
          </p:nvPicPr>
          <p:blipFill>
            <a:blip r:embed="rId2"/>
            <a:stretch/>
          </p:blipFill>
          <p:spPr>
            <a:xfrm>
              <a:off x="590400" y="133200"/>
              <a:ext cx="331632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066680" y="609480"/>
              <a:ext cx="2476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ППАРАТНЫЕ СРЕД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оризонтальный свиток 4"/>
          <p:cNvGrpSpPr/>
          <p:nvPr/>
        </p:nvGrpSpPr>
        <p:grpSpPr>
          <a:xfrm>
            <a:off x="4705200" y="133200"/>
            <a:ext cx="3621240" cy="2328840"/>
            <a:chOff x="4705200" y="133200"/>
            <a:chExt cx="3621240" cy="2328840"/>
          </a:xfrm>
        </p:grpSpPr>
        <p:pic>
          <p:nvPicPr>
            <p:cNvPr id="88" name="Горизонтальный свиток 4" descr=""/>
            <p:cNvPicPr/>
            <p:nvPr/>
          </p:nvPicPr>
          <p:blipFill>
            <a:blip r:embed="rId3"/>
            <a:stretch/>
          </p:blipFill>
          <p:spPr>
            <a:xfrm>
              <a:off x="4705200" y="133200"/>
              <a:ext cx="362124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181480" y="609480"/>
              <a:ext cx="27813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ПРОГРАММНОЕ ОБЕСПЕЧ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оризонтальный свиток 5"/>
          <p:cNvGrpSpPr/>
          <p:nvPr/>
        </p:nvGrpSpPr>
        <p:grpSpPr>
          <a:xfrm>
            <a:off x="4627440" y="2114640"/>
            <a:ext cx="3851280" cy="2328840"/>
            <a:chOff x="4627440" y="2114640"/>
            <a:chExt cx="3851280" cy="2328840"/>
          </a:xfrm>
        </p:grpSpPr>
        <p:pic>
          <p:nvPicPr>
            <p:cNvPr id="91" name="Горизонтальный свиток 5" descr=""/>
            <p:cNvPicPr/>
            <p:nvPr/>
          </p:nvPicPr>
          <p:blipFill>
            <a:blip r:embed="rId4"/>
            <a:stretch/>
          </p:blipFill>
          <p:spPr>
            <a:xfrm>
              <a:off x="4627440" y="2114640"/>
              <a:ext cx="385128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05520" y="2590920"/>
              <a:ext cx="30099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ОМПЬЮТЕРНЫЕ СЕ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оризонтальный свиток 6"/>
          <p:cNvGrpSpPr/>
          <p:nvPr/>
        </p:nvGrpSpPr>
        <p:grpSpPr>
          <a:xfrm>
            <a:off x="512640" y="2189160"/>
            <a:ext cx="3699000" cy="2327400"/>
            <a:chOff x="512640" y="2189160"/>
            <a:chExt cx="3699000" cy="2327400"/>
          </a:xfrm>
        </p:grpSpPr>
        <p:pic>
          <p:nvPicPr>
            <p:cNvPr id="94" name="Горизонтальный свиток 6" descr=""/>
            <p:cNvPicPr/>
            <p:nvPr/>
          </p:nvPicPr>
          <p:blipFill>
            <a:blip r:embed="rId5"/>
            <a:stretch/>
          </p:blipFill>
          <p:spPr>
            <a:xfrm>
              <a:off x="512640" y="2189160"/>
              <a:ext cx="369900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990720" y="2666880"/>
              <a:ext cx="2857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ОМПЬЮТЕРНАЯ ГРАФИ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оризонтальный свиток 7"/>
          <p:cNvGrpSpPr/>
          <p:nvPr/>
        </p:nvGrpSpPr>
        <p:grpSpPr>
          <a:xfrm>
            <a:off x="512640" y="4322880"/>
            <a:ext cx="3546720" cy="2327040"/>
            <a:chOff x="512640" y="4322880"/>
            <a:chExt cx="3546720" cy="2327040"/>
          </a:xfrm>
        </p:grpSpPr>
        <p:pic>
          <p:nvPicPr>
            <p:cNvPr id="97" name="Горизонтальный свиток 7" descr=""/>
            <p:cNvPicPr/>
            <p:nvPr/>
          </p:nvPicPr>
          <p:blipFill>
            <a:blip r:embed="rId6"/>
            <a:stretch/>
          </p:blipFill>
          <p:spPr>
            <a:xfrm>
              <a:off x="512640" y="4322880"/>
              <a:ext cx="354672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90720" y="4800600"/>
              <a:ext cx="2705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«СМЕШНАЯ» ИНФОРМАТИ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оризонтальный свиток 8"/>
          <p:cNvGrpSpPr/>
          <p:nvPr/>
        </p:nvGrpSpPr>
        <p:grpSpPr>
          <a:xfrm>
            <a:off x="4705200" y="4170240"/>
            <a:ext cx="4157640" cy="2327400"/>
            <a:chOff x="4705200" y="4170240"/>
            <a:chExt cx="4157640" cy="2327400"/>
          </a:xfrm>
        </p:grpSpPr>
        <p:pic>
          <p:nvPicPr>
            <p:cNvPr id="100" name="Горизонтальный свиток 8" descr=""/>
            <p:cNvPicPr/>
            <p:nvPr/>
          </p:nvPicPr>
          <p:blipFill>
            <a:blip r:embed="rId7"/>
            <a:stretch/>
          </p:blipFill>
          <p:spPr>
            <a:xfrm>
              <a:off x="4705200" y="4170240"/>
              <a:ext cx="4157640" cy="23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81480" y="4648320"/>
              <a:ext cx="3314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ЛГОРИТМИЗА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оризонтальный свиток 3"/>
          <p:cNvGrpSpPr/>
          <p:nvPr/>
        </p:nvGrpSpPr>
        <p:grpSpPr>
          <a:xfrm>
            <a:off x="360360" y="-249120"/>
            <a:ext cx="6369120" cy="3625560"/>
            <a:chOff x="360360" y="-249120"/>
            <a:chExt cx="6369120" cy="3625560"/>
          </a:xfrm>
        </p:grpSpPr>
        <p:pic>
          <p:nvPicPr>
            <p:cNvPr id="103" name="Горизонтальный свиток 3" descr=""/>
            <p:cNvPicPr/>
            <p:nvPr/>
          </p:nvPicPr>
          <p:blipFill>
            <a:blip r:embed="rId1"/>
            <a:stretch/>
          </p:blipFill>
          <p:spPr>
            <a:xfrm>
              <a:off x="360360" y="-249120"/>
              <a:ext cx="6369120" cy="36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000080" y="390600"/>
              <a:ext cx="528156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АППАРАТНЫЕ СРЕДСТВ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6" descr="E:\мое\с флэшкис ф\6в класс\картинки\school005.gif"/>
          <p:cNvPicPr/>
          <p:nvPr/>
        </p:nvPicPr>
        <p:blipFill>
          <a:blip r:embed="rId2"/>
          <a:stretch/>
        </p:blipFill>
        <p:spPr>
          <a:xfrm>
            <a:off x="5237280" y="2511360"/>
            <a:ext cx="340020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ют внутреннее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устройство компьютера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Самая большая микросхема компьютера, управляющая всеми вычислениям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ое прозвище получил процессор типа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Pentium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 можно найти на задней стенке системного блока компьютера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ак называется режим работы блоков  питания устройств компьютера, при котором используется минимум электроэнергии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ются внешние устройства компьютера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ется жесткий магнитный диск компьютера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2. Что означает слово кибернетик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а)  Искусство управл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б)  Быстрый сч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в)  Божественное знан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г)  Направленное действ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 компьютерном жаргоне называют чистый компакт-диск предназначенный для записи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ется портативный переносной компьютер 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ют процесс подготовки оборудования или программного обеспечения к первому запуску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ое устройство служит для связи материнской платы с монитором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У какого устройства компьютера часто образуется очередь документов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од какой элемент персонального компьютера подкладывают коврик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часто называют клавиатуру персонального компьютера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 скрывается за самой длинной клавишей на клавиатуре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оризонтальный свиток 2"/>
          <p:cNvGrpSpPr/>
          <p:nvPr/>
        </p:nvGrpSpPr>
        <p:grpSpPr>
          <a:xfrm>
            <a:off x="2341440" y="-96840"/>
            <a:ext cx="6747120" cy="3930480"/>
            <a:chOff x="2341440" y="-96840"/>
            <a:chExt cx="6747120" cy="3930480"/>
          </a:xfrm>
        </p:grpSpPr>
        <p:pic>
          <p:nvPicPr>
            <p:cNvPr id="130" name="Горизонтальный свиток 2" descr=""/>
            <p:cNvPicPr/>
            <p:nvPr/>
          </p:nvPicPr>
          <p:blipFill>
            <a:blip r:embed="rId1"/>
            <a:stretch/>
          </p:blipFill>
          <p:spPr>
            <a:xfrm>
              <a:off x="2341440" y="-96840"/>
              <a:ext cx="6747120" cy="39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019320" y="581040"/>
              <a:ext cx="560556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ПРОГРАММНОЕ ОБЕСПЕЧЕНИ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5" descr="E:\мое\с флэшкис ф\6в класс\картинки\school014.gif"/>
          <p:cNvPicPr/>
          <p:nvPr/>
        </p:nvPicPr>
        <p:blipFill>
          <a:blip r:embed="rId2"/>
          <a:stretch/>
        </p:blipFill>
        <p:spPr>
          <a:xfrm>
            <a:off x="208080" y="2511360"/>
            <a:ext cx="330984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ая система обеспечивает работоспособность компьютер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1237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3. Какое устройство, использовавшееся вплоть до середины 20 века, явилось предшественником современного калькулятор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а)  Счет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б)  Логарифмическая линей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в)  Арифмометр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г)  Аналитическая машина Бэббидж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ется объект, который обеспечивает обмен данных между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indows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программам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 помогает программисту восстановить работоспособность «зараженного» компьютер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 представляет собой перечисление всех папок, в который вложен данный файл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ая «железнодорожная» программа есть в ОС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indows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уда в ходе работы помещаются ненужные программы и документ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зовут создателя компании Microsof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ют размер шрифт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ют клавишу косая черт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2209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ая программа используется для работы с электронными таблицам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В чем соревнуются мастера компьютерного спорт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. Как называются все типы и модели ЭВМ, построенные на одних и тех же научных и  технологических принципах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Эр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б)  Поколен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в)  Цивилизац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г)  Популя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09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ется программа,  созданная специально для повреждения данны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Параметрами чего является гарнитура, кегль, цвет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Что представляет собой изменение параметров введенных символов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Как называют элемент графического интерфейса ОС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indows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Горизонтальный свиток 2"/>
          <p:cNvGrpSpPr/>
          <p:nvPr/>
        </p:nvGrpSpPr>
        <p:grpSpPr>
          <a:xfrm>
            <a:off x="1884240" y="-249120"/>
            <a:ext cx="6978600" cy="3473280"/>
            <a:chOff x="1884240" y="-249120"/>
            <a:chExt cx="6978600" cy="3473280"/>
          </a:xfrm>
        </p:grpSpPr>
        <p:pic>
          <p:nvPicPr>
            <p:cNvPr id="157" name="Горизонтальный свиток 2" descr=""/>
            <p:cNvPicPr/>
            <p:nvPr/>
          </p:nvPicPr>
          <p:blipFill>
            <a:blip r:embed="rId1"/>
            <a:stretch/>
          </p:blipFill>
          <p:spPr>
            <a:xfrm>
              <a:off x="1884240" y="-249120"/>
              <a:ext cx="697860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505240" y="371520"/>
              <a:ext cx="5919480" cy="22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КОМПЬЮТЕРНАЯ ГРАФИ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6" descr="E:\мое\с флэшкис ф\6в класс\картинки\картинки на школьную тему\BANDMAST.WMF"/>
          <p:cNvPicPr/>
          <p:nvPr/>
        </p:nvPicPr>
        <p:blipFill>
          <a:blip r:embed="rId2"/>
          <a:stretch/>
        </p:blipFill>
        <p:spPr>
          <a:xfrm>
            <a:off x="533520" y="909720"/>
            <a:ext cx="304776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Минимальный элемент растровой графики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цветовая модель,  в качестве компонентов которой используются основные цвета: 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расный, зеленый, синий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рограмма  для работы с растровой графикой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Инструмент , используемый для закраски замкнутой области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ое устройство компьютера используется для вывода графической информации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5.  Назовите удивительного предка компьютера, не имевшего никакого отношения к вычислениям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Ткацкий станок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б)  Мельниц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в)  Маслобой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г)   Гончарный кру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сетка из горизонтальных и вертикальных столбцов, которую на экране образуют пиксели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Устройство, управляющее работой графического дисплея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ой принтер наиболее эффективен для печати цветных фотографий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ое из дополнительных устройств поможет получить электронную копию фотографий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объединение двух или большего числа изображений в одно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Техника рисования, когда художник манипулирует с отдельными пикселями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 каком формате графические файлы сохраняются для передачи изображений для по сети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азовите наиболее мощный и популярный векторный графический редактор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2209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С помощью какого инструмента графического редактора можно нарисовать плавный переход от одного цвета к другому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процесс редактирования отдельных деталей изображения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6.  Какой первоначальный смысл английского слова «компьютер»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Телескоп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б)  Электронный аппара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)  Электронно -  лучевая труб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г)   Человек, производящий расче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Горизонтальный свиток 4"/>
          <p:cNvGrpSpPr/>
          <p:nvPr/>
        </p:nvGrpSpPr>
        <p:grpSpPr>
          <a:xfrm>
            <a:off x="2189160" y="-249120"/>
            <a:ext cx="6899400" cy="3930480"/>
            <a:chOff x="2189160" y="-249120"/>
            <a:chExt cx="6899400" cy="3930480"/>
          </a:xfrm>
        </p:grpSpPr>
        <p:pic>
          <p:nvPicPr>
            <p:cNvPr id="184" name="Горизонтальный свиток 4" descr=""/>
            <p:cNvPicPr/>
            <p:nvPr/>
          </p:nvPicPr>
          <p:blipFill>
            <a:blip r:embed="rId1"/>
            <a:stretch/>
          </p:blipFill>
          <p:spPr>
            <a:xfrm>
              <a:off x="2189160" y="-249120"/>
              <a:ext cx="6899400" cy="39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67040" y="428760"/>
              <a:ext cx="575784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КОМПЬЮТЕРНЫЕ СЕТ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6" descr="E:\мое\с флэшкис ф\6в класс\картинки\school017.gif"/>
          <p:cNvPicPr/>
          <p:nvPr/>
        </p:nvPicPr>
        <p:blipFill>
          <a:blip r:embed="rId2"/>
          <a:stretch/>
        </p:blipFill>
        <p:spPr>
          <a:xfrm>
            <a:off x="208080" y="2352600"/>
            <a:ext cx="3552840" cy="82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ри виде, какой аббревиатуры  сразу на ум приходит Интернет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о обязательно имеет компьютер, подключенный к Интернету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общепринятое соглашение, которого придерживаются сетевые компьютеры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поставщик услуг Интернета 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Что является минимальным элементом информационной структуры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WWW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сохраненная в специальной папке браузера ссылка на страницу Интерне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ой формат имеет файл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– страницы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ются специальные команды языка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HTML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программа для просмотра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– страничек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.   Когда появилась первая ЭВМ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)  1823 г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б)   1946 г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в)   1949 г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Г)   1951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Для доступа к какому информационному ресурсу Интернета используется протокол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HTTP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ую сеть образуют компьютеры, связанные каналом передачи информации для совместного использования общих ресурсов в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пределах одного здания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2209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ются части электронного адреса, разделенные точкам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2209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компьютер, предоставляющий свои ресурсы другим компьютерам при совместной работе 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компьютер в сети, имеющий доступ к ресурсам сервера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ются различные рекламные объявления, приходящие по электронной почте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E:\мое\с флэшкис ф\6в класс\картинки\school001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Горизонтальный свиток 4"/>
          <p:cNvGrpSpPr/>
          <p:nvPr/>
        </p:nvGrpSpPr>
        <p:grpSpPr>
          <a:xfrm>
            <a:off x="360360" y="-249120"/>
            <a:ext cx="6899400" cy="3473280"/>
            <a:chOff x="360360" y="-249120"/>
            <a:chExt cx="6899400" cy="3473280"/>
          </a:xfrm>
        </p:grpSpPr>
        <p:pic>
          <p:nvPicPr>
            <p:cNvPr id="211" name="Горизонтальный свиток 4" descr=""/>
            <p:cNvPicPr/>
            <p:nvPr/>
          </p:nvPicPr>
          <p:blipFill>
            <a:blip r:embed="rId1"/>
            <a:stretch/>
          </p:blipFill>
          <p:spPr>
            <a:xfrm>
              <a:off x="360360" y="-249120"/>
              <a:ext cx="689940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981000" y="371520"/>
              <a:ext cx="5843520" cy="22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Calibri"/>
                </a:rPr>
                <a:t>АЛГОРИТМИЗАЦ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5" descr="E:\мое\с флэшкис ф\6в класс\картинки\картинки на школьную тему\img1.gif"/>
          <p:cNvPicPr/>
          <p:nvPr/>
        </p:nvPicPr>
        <p:blipFill>
          <a:blip r:embed="rId2"/>
          <a:stretch/>
        </p:blipFill>
        <p:spPr>
          <a:xfrm>
            <a:off x="4475160" y="3121200"/>
            <a:ext cx="4284720" cy="68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принято называть величину, значение которой меняется в процессе выполнения программы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ой знак в большинстве языков программирования выполняет функцию знака умножения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ак называется последовательность команд для исполнителя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5:48:25Z</dcterms:created>
  <dc:creator>Тратата</dc:creator>
  <dc:description/>
  <dc:language>en-US</dc:language>
  <cp:lastModifiedBy>User</cp:lastModifiedBy>
  <dcterms:modified xsi:type="dcterms:W3CDTF">2015-09-28T16:34:47Z</dcterms:modified>
  <cp:revision>79</cp:revision>
  <dc:subject/>
  <dc:title>ОТБОРОЧНЫЙ ТУР</dc:title>
</cp:coreProperties>
</file>